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5B513-DCD1-4A51-8F24-3C7F4EA76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19E500-BE7B-49E9-A931-B13E69746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C113F-0A00-4589-A0AF-11D442DE30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28E-A400-4129-A6B7-F70F77A1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EFB-D5B2-4FF8-8709-ADCFB684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2F9-8551-4C3F-A483-8E4E8AC9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21B-A1CE-45AC-AC11-922305C0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8A94-6891-428A-AE0A-CD8369DC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DB61-8F9D-4F97-8FFC-BB2C0426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304E-4F69-4E5B-B154-9A12753C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7152-E86F-40D5-A24E-CA8601DD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9148-BBE2-4FEE-B12E-7F2F920F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8FD5-745A-4F24-86C0-390EEA20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68A2-B1A3-4C3B-AC73-4C795FB6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9B1-0684-48D3-9419-F72BDB64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8910-5123-4E0A-B948-23C18369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C60D-5C2E-42E8-B6FB-DC314609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1CB1-BFEA-43FF-B950-E2493896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3631-1963-4B75-BBE9-C4F4FFAC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034E-70BE-4314-8D98-8ABF2465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3F2-A011-41F9-9A9E-523284D0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C25-24F5-4CEB-822B-E5AD9EBB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B29-8AAB-46FF-BD60-4F34936C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9E1-3CDB-474D-9D09-E9575BC8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AC1-1FB8-4CEF-9020-A2C0BD6E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44E-4046-4145-B16B-3B836734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F30-9289-4EA2-8DC4-FA151BFD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F15CA-C606-4C9C-B6DC-29C4F3D455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3478C-3659-41E2-94E6-D30AFC304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157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HO &amp; Open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5616360"/>
            <a:ext cx="6400800" cy="9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SIP Discovery – Show &amp; Te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SIP Summer Meeting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tt Cechin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67000" y="0"/>
            <a:ext cx="743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Corbel"/>
              </a:rPr>
              <a:t>Data Discovery &amp; ECHO AP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Corbel"/>
              </a:rPr>
              <a:t>OpenSearch’s Impact to EC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Corbel"/>
              </a:rPr>
              <a:t>ECHO-ESIP Cl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Corbel"/>
              </a:rPr>
              <a:t>Futur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8F4D4-6095-4C99-870B-7EE2A5489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3886200" y="6400800"/>
            <a:ext cx="12952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66640" y="0"/>
            <a:ext cx="7677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Discovery &amp; the ECHO AP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4840" y="1325160"/>
            <a:ext cx="358128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s “legacy” SOAP data discovery &amp; response forma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lements core discovery capability against inde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ynamic metadata translation to ECHO 10, ISO 19115, &amp;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S v1.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om (XML &amp; JSON-tentativ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penSe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s OpenSearch request/response capabilit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ture activity : Utilize dynamic format translation in ECHO REST AP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815080" y="2394000"/>
            <a:ext cx="1398600" cy="3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Magnetic Disk 3"/>
          <p:cNvSpPr/>
          <p:nvPr/>
        </p:nvSpPr>
        <p:spPr>
          <a:xfrm>
            <a:off x="5686560" y="4219560"/>
            <a:ext cx="1657080" cy="1093680"/>
          </a:xfrm>
          <a:prstGeom prst="flowChartMagneticDisk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CHO XML 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(Native Metadata &amp; Spatial Index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4118040" y="2394000"/>
            <a:ext cx="1398600" cy="3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7448400" y="2394000"/>
            <a:ext cx="1398600" cy="3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en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9"/>
          <p:cNvCxnSpPr>
            <a:stCxn id="103" idx="1"/>
            <a:endCxn id="100" idx="3"/>
          </p:cNvCxnSpPr>
          <p:nvPr/>
        </p:nvCxnSpPr>
        <p:spPr>
          <a:xfrm flipH="1">
            <a:off x="7213320" y="2590560"/>
            <a:ext cx="235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5" name="Straight Arrow Connector 21"/>
          <p:cNvCxnSpPr>
            <a:stCxn id="100" idx="1"/>
            <a:endCxn id="102" idx="3"/>
          </p:cNvCxnSpPr>
          <p:nvPr/>
        </p:nvCxnSpPr>
        <p:spPr>
          <a:xfrm flipH="1">
            <a:off x="5515920" y="2590560"/>
            <a:ext cx="2991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6" name="Cube 26"/>
          <p:cNvSpPr/>
          <p:nvPr/>
        </p:nvSpPr>
        <p:spPr>
          <a:xfrm>
            <a:off x="3863880" y="4219560"/>
            <a:ext cx="1652760" cy="10936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arch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Straight Arrow Connector 29"/>
          <p:cNvCxnSpPr>
            <a:stCxn id="102" idx="2"/>
            <a:endCxn id="106" idx="0"/>
          </p:cNvCxnSpPr>
          <p:nvPr/>
        </p:nvCxnSpPr>
        <p:spPr>
          <a:xfrm>
            <a:off x="4818240" y="2788920"/>
            <a:ext cx="10080" cy="1430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8" name="Elbow Connector 6"/>
          <p:cNvCxnSpPr/>
          <p:nvPr/>
        </p:nvCxnSpPr>
        <p:spPr>
          <a:xfrm flipH="1" rot="16200000">
            <a:off x="4927680" y="3016440"/>
            <a:ext cx="1430640" cy="975240"/>
          </a:xfrm>
          <a:prstGeom prst="bentConnector3">
            <a:avLst>
              <a:gd name="adj1" fmla="val 49987"/>
            </a:avLst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Elbow Connector 20"/>
          <p:cNvCxnSpPr>
            <a:stCxn id="103" idx="0"/>
            <a:endCxn id="102" idx="0"/>
          </p:cNvCxnSpPr>
          <p:nvPr/>
        </p:nvCxnSpPr>
        <p:spPr>
          <a:xfrm flipV="1" rot="16200000">
            <a:off x="6481800" y="729000"/>
            <a:ext cx="13680" cy="3329640"/>
          </a:xfrm>
          <a:prstGeom prst="bentConnector3">
            <a:avLst>
              <a:gd name="adj1" fmla="val 1800000"/>
            </a:avLst>
          </a:prstGeom>
          <a:ln w="25560">
            <a:solidFill>
              <a:srgbClr val="4f81bd"/>
            </a:solidFill>
            <a:prstDash val="dash"/>
            <a:miter/>
            <a:tailEnd len="med" type="arrow" w="med"/>
          </a:ln>
        </p:spPr>
      </p:cxnSp>
      <p:sp>
        <p:nvSpPr>
          <p:cNvPr id="110" name="TextBox 23"/>
          <p:cNvSpPr/>
          <p:nvPr/>
        </p:nvSpPr>
        <p:spPr>
          <a:xfrm>
            <a:off x="6054840" y="183996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67000" y="0"/>
            <a:ext cx="743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  <a:ea typeface="Corbel"/>
              </a:rPr>
              <a:t>OpenSearch’s Impact to EC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43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Simple REST-ful Interf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Legacy SOAP interface had an inherently high learning and development curve due to techn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penSearch was ECHO’s first foray into a simple REST Interf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Quick &amp; Simple to develop service on top of existing capabiliti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ovided a head start for eventual full REST AP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Increased Client Expos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ignificantly reduced development complex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road usage of OpenSeach API allowed for quicker interoperabi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mmediate response from client developer commun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Mirador – GES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SCS3 – GH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Mercury - ORN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Simple Result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imple results reduces the amount of data transferred to requesting clie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duced OpenSearch results vs. client application needs forces custom elements and opens the door for granule result scope creep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Keyword Search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pened up the concept of an indexed textual search for ECHO metadat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triage of all metadata fields to determine what should or should not be index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ovided a head start for eventual full REST AP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67000" y="0"/>
            <a:ext cx="743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ECHO-ESIP Cli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  <a:ea typeface="Corbel"/>
              </a:rPr>
              <a:t>ECHO-ES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Reference client exposing OpenSearch dataset &amp; granule discover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Intended for ECHO Internal &amp; External Validation U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8513C-8FA4-48F2-901C-37A1444EC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Screen shot 2011-07-12 at 11.22.57 PM.png"/>
          <p:cNvPicPr/>
          <p:nvPr/>
        </p:nvPicPr>
        <p:blipFill>
          <a:blip r:embed="rId1"/>
          <a:stretch/>
        </p:blipFill>
        <p:spPr>
          <a:xfrm>
            <a:off x="227160" y="2852640"/>
            <a:ext cx="4117680" cy="309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Picture 2" descr="Screen shot 2011-07-12 at 11.23.16 PM.png"/>
          <p:cNvPicPr/>
          <p:nvPr/>
        </p:nvPicPr>
        <p:blipFill>
          <a:blip r:embed="rId2"/>
          <a:stretch/>
        </p:blipFill>
        <p:spPr>
          <a:xfrm>
            <a:off x="4659480" y="2852640"/>
            <a:ext cx="4241520" cy="309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TextBox 3"/>
          <p:cNvSpPr/>
          <p:nvPr/>
        </p:nvSpPr>
        <p:spPr>
          <a:xfrm>
            <a:off x="1784520" y="6172200"/>
            <a:ext cx="55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api.echo.nasa.gov/echo-esip/search/dataset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67000" y="0"/>
            <a:ext cx="743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Future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7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  <a:ea typeface="ヒラギノ角ゴ Pro W3"/>
              </a:rPr>
              <a:t>Support OpenSearch 1.1 Specif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ヒラギノ角ゴ Pro W3"/>
              </a:rPr>
              <a:t>Support correct ‘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rel’ attribute lin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Support translation of all spatial types to Georss:Simple or G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Provide MBR for all non-orbit granul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  <a:ea typeface="Corbe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rbel"/>
                <a:ea typeface="Corbel"/>
              </a:rPr>
              <a:t>Computing MBRs for new indexed searching cap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  <a:ea typeface="Corbel"/>
              </a:rPr>
              <a:t>Move ECHO-ESIP to utilize ECHO REST AP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Leverage ECHO translation of dataset &amp; granule metadata to Atom OpenSearch forma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Leverage advanced keyword text search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Provide result count in resul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  <a:ea typeface="Corbel"/>
              </a:rPr>
              <a:t>Investigate Reverb Us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Utilize Atom OpenSearch format as the default response type for dataset &amp; granule result lis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  <a:ea typeface="Corbel"/>
              </a:rPr>
              <a:t>For performance reasons, response data may actually be a JSON representation of the Atom f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Will require additional custom elements (e.g. LocalGranuleID &amp; ArchiveCente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  <a:ea typeface="Corbel"/>
              </a:rPr>
              <a:t>Unclear how orbit parameters will be represented, if required in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  <a:ea typeface="Corbel"/>
              </a:rPr>
              <a:t>Data (Collection &amp; Granule) Casting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Leverage the ECHO REST API query capability &amp; Atom conversion sup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21:54:25Z</dcterms:created>
  <dc:creator>Matt Cechini</dc:creator>
  <dc:description/>
  <dc:language>en-US</dc:language>
  <cp:lastModifiedBy>Matt Cechini</cp:lastModifiedBy>
  <dcterms:modified xsi:type="dcterms:W3CDTF">2011-07-13T15:52:54Z</dcterms:modified>
  <cp:revision>30</cp:revision>
  <dc:subject/>
  <dc:title>PowerPoint Presentation</dc:title>
</cp:coreProperties>
</file>